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6E3A-1AEB-41D0-8F2A-173749E070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DC05-56B1-4322-AAC0-2A0BDC172F5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25F9-156F-4B10-A5C3-09BC0525B7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4068C-1068-40BF-8F84-E0869D34DB6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4E73D-5737-427F-B898-487590317C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2AE0-E9C2-4E5C-BDA3-0A73BDB9A1C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9560E-B325-43FD-8087-D030B42F307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F8525-2B42-478C-ADF9-C0232EFEF0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555C-CBCE-4D69-A507-818C15F866D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2EFC-0329-4974-8B32-506B241602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C74C7-4752-45A8-8233-FDC5BF994F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25BF-2C1A-40E9-8E1A-00FFEC1EC1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4803-1808-4013-B849-596615651B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DD09-FD47-4539-9DA5-9640C6F67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0B27-7684-4313-891D-33561053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64A9-E7AE-4E08-8B1D-32639752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9A1F-EC22-4452-A744-07CA636AA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278F1-9F93-4B76-9A7C-2F9C6FF3C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83029-0993-499A-81D5-AB783C8E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842B-391E-4D4F-B4BF-B2C032BE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D34C-210A-4DDE-A7B2-63F9F4C9D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7B3F4-2AF9-4762-BD83-D721CF53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2E49-6AC3-45E0-8FBB-F7953ABB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2722E-BAB9-425B-92BE-D470894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BC8F-1A50-45DD-8C27-B1AEB8F1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6EB84-7DC5-4987-A328-C6A0262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A447-9B64-4AD6-B8F2-DB8472A4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5B190-2D28-4368-BE54-D1C2B58F0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C2A3-F681-42B5-BAFC-6F95D11CD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F8B5A-71DC-4711-A2D6-A3985AC70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A22-85A4-41E8-A74F-F0EE4F337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86EB-3B2A-472C-9299-81BEED5E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EE16-439B-4E90-8CCC-C72FFD62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3A6-49A7-4368-B579-ECF48A670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5E90-C90E-4D2C-90A7-3AADF533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9A4AA-D083-40E9-866B-C6D78FBD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7861-C39F-4237-B986-63030D0B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F6B4-8696-4397-912E-39A098AC8AA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1103-F598-4F25-8470-35FAA1E3601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iatron-APV-Logo.jpg"/>
          <p:cNvPicPr/>
          <p:nvPr/>
        </p:nvPicPr>
        <p:blipFill>
          <a:blip r:embed="rId1"/>
          <a:stretch/>
        </p:blipFill>
        <p:spPr>
          <a:xfrm>
            <a:off x="38160" y="657360"/>
            <a:ext cx="9067680" cy="5543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8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22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0" y="11430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Standard Sample Repor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4" name="Snagit_PPT52B0" descr="PPT52B0.png"/>
          <p:cNvPicPr/>
          <p:nvPr/>
        </p:nvPicPr>
        <p:blipFill>
          <a:blip r:embed="rId2"/>
          <a:stretch/>
        </p:blipFill>
        <p:spPr>
          <a:xfrm>
            <a:off x="990720" y="1596960"/>
            <a:ext cx="7000920" cy="526104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7" name="TextBox 6"/>
          <p:cNvSpPr/>
          <p:nvPr/>
        </p:nvSpPr>
        <p:spPr>
          <a:xfrm>
            <a:off x="0" y="1219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Pain Management Summar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1663560" y="1676520"/>
            <a:ext cx="5803920" cy="51814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1" name="TextBox 6"/>
          <p:cNvSpPr/>
          <p:nvPr/>
        </p:nvSpPr>
        <p:spPr>
          <a:xfrm>
            <a:off x="0" y="1219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Pain Management Detail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1676520" y="1728720"/>
            <a:ext cx="5715000" cy="5129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8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5" name="TextBox 5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Thank You!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685800" y="20574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Thank you for viewing our quick presentation.  We hope that it was helpful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762120" y="3124080"/>
            <a:ext cx="72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Obtaining additional Informatio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Contact your Diatron Distributo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E-mail us at BobW@AP-Visions.com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Call us at (714)-306-0996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TextBox 11"/>
          <p:cNvSpPr/>
          <p:nvPr/>
        </p:nvSpPr>
        <p:spPr>
          <a:xfrm>
            <a:off x="762120" y="4724280"/>
            <a:ext cx="716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You can also see a Simple and Comprehensive On-Line demonstration of xLab and its features at: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Verdana"/>
              </a:rPr>
              <a:t>www.AP-Visions.com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91" name="TextBox 4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85800" y="2585880"/>
            <a:ext cx="800100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Welcome to the Diatron/AP-Visions </a:t>
            </a:r>
            <a:r>
              <a:rPr b="1" i="1" lang="en-US" sz="2000" spc="-1" strike="noStrike">
                <a:solidFill>
                  <a:srgbClr val="ffffff"/>
                </a:solidFill>
                <a:latin typeface="Verdana"/>
                <a:ea typeface="Calibri"/>
              </a:rPr>
              <a:t>xLab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.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Whether your lab produces;  Chemistry and Hematology results only,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or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you also produce Urines and Immunology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or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your forte reaches into the Pain Management arena,  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AP-Visions brings you </a:t>
            </a:r>
            <a:r>
              <a:rPr b="1" i="1" lang="en-US" sz="1800" spc="-1" strike="noStrike">
                <a:solidFill>
                  <a:srgbClr val="ffffff"/>
                </a:solidFill>
                <a:latin typeface="Verdana"/>
                <a:ea typeface="Calibri"/>
              </a:rPr>
              <a:t>xLab,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Verdana"/>
                <a:ea typeface="Calibri"/>
              </a:rPr>
              <a:t>the most cost effective LIS solution available 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that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Calibri"/>
              </a:rPr>
              <a:t>seamlessly integrates all your Clinical Instruments and your EMR .</a:t>
            </a:r>
            <a:endParaRPr b="0" lang="en-US" sz="1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685800" y="1828800"/>
            <a:ext cx="2209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Welcom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7"/>
          <p:cNvSpPr/>
          <p:nvPr/>
        </p:nvSpPr>
        <p:spPr>
          <a:xfrm>
            <a:off x="838080" y="1981080"/>
            <a:ext cx="7239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is presentation will give you an overview of the features of </a:t>
            </a:r>
            <a:r>
              <a:rPr b="1" i="1" lang="en-US" sz="2400" spc="-1" strike="noStrike">
                <a:solidFill>
                  <a:srgbClr val="ffffff"/>
                </a:solidFill>
                <a:latin typeface="Book Antiqua"/>
              </a:rPr>
              <a:t>xLab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nd examples of various screens and reports.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There are also both a simple and comprehensive "On-Line" demo available at www.AP-Visions.com that goes into a little more detail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Or you can simply contact your Diatron distributor, and us an e-Mail at Bobw@AP-Visions.com or give us a call at (714)-306-0996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8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96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10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5"/>
          <p:cNvSpPr/>
          <p:nvPr/>
        </p:nvSpPr>
        <p:spPr>
          <a:xfrm>
            <a:off x="914400" y="24382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User customizable comprehensive order enter for when you don’t have an EMR order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Extensive workflow management including user definable Labels and Work Lists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ull Quality Control module includ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Levy-Jennings and Westgard rule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LIA, COLA, JCAHO and HIPAA complian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mprehensive Management Report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Complete automatic patient report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Business Rules based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Age, Gender, Race based reference range check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Delta Range checking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TextBox 6"/>
          <p:cNvSpPr/>
          <p:nvPr/>
        </p:nvSpPr>
        <p:spPr>
          <a:xfrm>
            <a:off x="879840" y="1905120"/>
            <a:ext cx="27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Feature Overview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9" name="Picture 7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00" name="TextBox 8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Snagit_PPT73A6" descr="PPT73A6.png"/>
          <p:cNvPicPr/>
          <p:nvPr/>
        </p:nvPicPr>
        <p:blipFill>
          <a:blip r:embed="rId1"/>
          <a:stretch/>
        </p:blipFill>
        <p:spPr>
          <a:xfrm>
            <a:off x="1219320" y="1981080"/>
            <a:ext cx="6253200" cy="472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iatron-APV-Logo.jpg"/>
          <p:cNvPicPr/>
          <p:nvPr/>
        </p:nvPicPr>
        <p:blipFill>
          <a:blip r:embed="rId2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03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0" y="1295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HIPPA Compliant Log In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 advTm="10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06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85800" y="12193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Comprehensive User Customizable Patient Demographic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2"/>
          <a:stretch/>
        </p:blipFill>
        <p:spPr>
          <a:xfrm>
            <a:off x="1063800" y="1714680"/>
            <a:ext cx="6860880" cy="51433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8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TextBox 6"/>
          <p:cNvSpPr/>
          <p:nvPr/>
        </p:nvSpPr>
        <p:spPr>
          <a:xfrm>
            <a:off x="0" y="1219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Order Entry with “Point and Click” (Pain Management Shown)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1038240" y="1695600"/>
            <a:ext cx="6886440" cy="51624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14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TextBox 6"/>
          <p:cNvSpPr/>
          <p:nvPr/>
        </p:nvSpPr>
        <p:spPr>
          <a:xfrm>
            <a:off x="0" y="1219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Optimized Workflow Work List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Snagit_PPTFF68" descr="PPTFF68.png"/>
          <p:cNvPicPr/>
          <p:nvPr/>
        </p:nvPicPr>
        <p:blipFill>
          <a:blip r:embed="rId2"/>
          <a:stretch/>
        </p:blipFill>
        <p:spPr>
          <a:xfrm>
            <a:off x="1149480" y="1712880"/>
            <a:ext cx="6851520" cy="5145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8" descr="Diatron-APV-Logo.jpg"/>
          <p:cNvPicPr/>
          <p:nvPr/>
        </p:nvPicPr>
        <p:blipFill>
          <a:blip r:embed="rId1"/>
          <a:stretch/>
        </p:blipFill>
        <p:spPr>
          <a:xfrm>
            <a:off x="0" y="0"/>
            <a:ext cx="1752480" cy="10717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9"/>
          <p:cNvSpPr/>
          <p:nvPr/>
        </p:nvSpPr>
        <p:spPr>
          <a:xfrm>
            <a:off x="2133720" y="228600"/>
            <a:ext cx="396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AP-Visions xLab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0" y="12193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Verdana"/>
                <a:ea typeface="Verdana"/>
              </a:rPr>
              <a:t>Multi-level QC display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0" name="Snagit_PPT4F44" descr="PPT4F44.png"/>
          <p:cNvPicPr/>
          <p:nvPr/>
        </p:nvPicPr>
        <p:blipFill>
          <a:blip r:embed="rId2"/>
          <a:stretch/>
        </p:blipFill>
        <p:spPr>
          <a:xfrm>
            <a:off x="1046160" y="1766880"/>
            <a:ext cx="6802560" cy="509112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11:08:59Z</dcterms:created>
  <dc:creator>Bob 'Robert' Waechter</dc:creator>
  <dc:description/>
  <dc:language>en-US</dc:language>
  <cp:lastModifiedBy>ASUS</cp:lastModifiedBy>
  <dcterms:modified xsi:type="dcterms:W3CDTF">2016-03-02T20:10:44Z</dcterms:modified>
  <cp:revision>40</cp:revision>
  <dc:subject/>
  <dc:title>Slide 1</dc:title>
</cp:coreProperties>
</file>